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C395-1915-4265-A0B7-8AD57FC6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B7D3-1CD1-4FBC-9A17-EFA477C3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D7C-2F8E-437A-985F-CDCB74CF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6A5-1BD9-414E-925B-A02CB18A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AA6-6D29-4487-AD14-022C6E1C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05B0-58FA-4319-B696-DA90DB25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414-B9F4-4772-B191-3654CC3F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554-573B-47EA-B416-57390696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AEC5-22C7-47B8-B3F3-A0B83C0C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BE2-7B5E-49C9-8BE3-524536F3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C01-A729-4B94-AEC3-B4AB6892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B2A7-5646-4928-8800-8CF2FE29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7D49-A3B0-4C7A-B20C-1791A65FF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ramainnature.com/photograph_of_sun_smoke_idaho_2000_poster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ahaffy.org/lightning/lightning000225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Looking at l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544464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Cameron brown and Dylan Tay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FireSunIdahothumb.JPG (3044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341360"/>
            <a:ext cx="8964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 Black"/>
              </a:rPr>
              <a:t>Light Fac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713916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 lets us see things around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different ways of making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 travels in straight 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 travels faster than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 Lets us see in dark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 travels 300 million metres every sec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tebulb"/>
          <p:cNvSpPr/>
          <p:nvPr/>
        </p:nvSpPr>
        <p:spPr>
          <a:xfrm>
            <a:off x="6283440" y="2276640"/>
            <a:ext cx="2860560" cy="3206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Light and shadow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of the materials let light go straight through them( like glass) they are called trans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some materials do not let a lot of light through them they are transluc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some materials don’t let any light through them .they are opaque . Opaque  materials make sha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484280"/>
            <a:ext cx="3606840" cy="2151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eing col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materials reflect when the light shines on them. (Absorb the rest of the 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een objects reflect green light when you shine a torch on it and White objects reflect all the colours when you shine a torch on it Black objects do not shine any colou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0:03:10Z</dcterms:created>
  <dc:creator>taylordy</dc:creator>
  <dc:description/>
  <dc:language>en-US</dc:language>
  <cp:lastModifiedBy>taylordy</cp:lastModifiedBy>
  <dcterms:modified xsi:type="dcterms:W3CDTF">2006-01-25T12:43:44Z</dcterms:modified>
  <cp:revision>6</cp:revision>
  <dc:subject/>
  <dc:title>Looking at light</dc:title>
</cp:coreProperties>
</file>